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B5F-DD2A-4C66-B516-BC8FDA9E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13B-4F64-4125-BA5B-0B5236F3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703-06D2-4799-876B-0727BEFF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769-65C6-4DDE-AE62-E2742A0A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7BB-6218-461E-9C87-D9706E7B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A42-244A-4539-8114-23284EAA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42F-55AB-4AB2-84E1-279410E7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FBC-3960-48D7-8BC3-DEA9DBC1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008-8C10-4D9D-BD7D-17991DA4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73F-A6DB-4BE8-9FDE-AE6E8769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CA2-FCAE-4E20-88E1-E230533D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BE7-B6E0-4C1D-9145-1F6CEEF7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76A7-333D-4988-AC35-E4A449DA449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197000"/>
            <a:ext cx="52578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ر ب نوري وخلاصي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96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 نوري وخلاص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ممّن أخاف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ُّ حصنُ حيات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ممّن أفزع؟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تقدّم عليَّ الأشرار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أكلوا لحمي مُضايقيَّ وأعدائي فإنّهم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عثـُرون ويسقُطون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996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اصطفَّ عليَّ عسكر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لا يخافُ قلب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 قامَ عليَّ قتال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في ذلك ثقت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26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حدةً سألتُ الربّ وإيّاها ألتمس. أن أُقيمَ ببيتِ الربِ جميعَ أيام حياتي، لكي أُعاينَ نعيمَ الربِ وأتأمّل في هيكَلِهِ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81000"/>
            <a:ext cx="9144000" cy="14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ّه يخبّأني في مِظَلَّتِهِ يومَ الشرِ ويستُرني بسِترِ خِبائِه وعلى صخرةٍ يرفَعُني. فحينئذٍ يعلو رأسي فوقَ أعدائي من حولي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1000"/>
            <a:ext cx="9144000" cy="1146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ذبحُ في خبائِه ذبائِحَ هُتافٍ. أُرَنِّمُ وأُشيدُ للربِ. إِستَمِع ياربّي، إنّي بصوتي أدعو فارحَمني، واستجب لي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0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كَ نَطَقَ قلبي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ّاكَ التمَسَ وجهي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جَهَك يا ربِّ ألتمس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تَحجُب وجهَك عنّي ولا تنبذ بغضَبٍ عبدكَ. ناصراً كنتَ لي، فلا تَخذلُني ولا تترُكني، يا إلهَ خلاص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1:59Z</dcterms:created>
  <dc:creator>Charbel Azar</dc:creator>
  <dc:description/>
  <dc:language>en-US</dc:language>
  <cp:lastModifiedBy>-</cp:lastModifiedBy>
  <dcterms:modified xsi:type="dcterms:W3CDTF">2003-01-03T12:51:55Z</dcterms:modified>
  <cp:revision>6</cp:revision>
  <dc:subject/>
  <dc:title>PowerPoint Presentation</dc:title>
</cp:coreProperties>
</file>